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681-D053-4A5C-8F17-31C1E4ED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B3D-5038-4357-82B2-9774723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7C8-CE8B-4D60-86B8-F874964A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7E3-5964-4438-AD4B-F5617364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B838-4CEC-4230-A6D1-5C944F8E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D6E0-C660-4069-8831-1D73F5E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5CF2-1F2E-43A4-866B-94AC09AF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F73C-AF39-460B-A330-10283EC4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34DA-7B3C-43F4-B462-0C33F02C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6789-AB84-43C8-AEB0-068BB60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4F72-6EAA-45C8-8A5C-2298DA5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9C5-1B23-4E41-82E7-C2A098BE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7D7D-6043-4AB8-98EC-E9F5AE9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44C6-3067-471C-8E8D-48AB49F4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5018-1A69-4C4E-B984-1CE3075F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814E-7A43-4923-A303-23A43A9A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CA1-B2DF-4770-BE08-1156866B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DFA-3DCA-4304-8EB9-AD919EA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D21-2AE5-4FFC-A047-C6548771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509-40BD-4184-B5B5-EE063BFF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5D5-AC71-45C2-B0C6-FDAEB0FF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84D-2436-4F39-A9BF-F64DBD61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F4C-3F1C-4630-B38F-4C97926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EDD-BD72-42C7-9835-C6BEEEE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6881-379A-4BBF-AC43-49A4C5583BC5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53CC-0262-4331-920C-8B178D1B769D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cc"/>
                </a:solidFill>
                <a:latin typeface="Arial"/>
              </a:rPr>
              <a:t>Chapitre 1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L’Autonomis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hm00376_[1]"/>
          <p:cNvPicPr/>
          <p:nvPr/>
        </p:nvPicPr>
        <p:blipFill>
          <a:blip r:embed="rId1"/>
          <a:stretch/>
        </p:blipFill>
        <p:spPr>
          <a:xfrm>
            <a:off x="324000" y="333360"/>
            <a:ext cx="1898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: un casse-tê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Il y a cinq pièces import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Si les individus deviennent autonomes dans ces domaines, ils atteindront l’autonomisation personn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MCj03115260000[1]"/>
          <p:cNvPicPr/>
          <p:nvPr/>
        </p:nvPicPr>
        <p:blipFill>
          <a:blip r:embed="rId1"/>
          <a:stretch/>
        </p:blipFill>
        <p:spPr>
          <a:xfrm>
            <a:off x="5364000" y="4311720"/>
            <a:ext cx="321480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Les cinq pièce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cc6600"/>
                </a:solidFill>
                <a:latin typeface="Tahoma"/>
              </a:rPr>
              <a:t>Économiq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33cc33"/>
                </a:solidFill>
                <a:latin typeface="Tahoma"/>
              </a:rPr>
              <a:t>Politiqu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0066"/>
                </a:solidFill>
                <a:latin typeface="Tahoma"/>
              </a:rPr>
              <a:t>Culturel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cc6600"/>
                </a:solidFill>
                <a:latin typeface="Tahoma"/>
              </a:rPr>
              <a:t>Socia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Tahoma"/>
              </a:rPr>
              <a:t>Nationa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L’autonomisation économi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a science économiqu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st l’étude de la distribution des res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économique 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existe quand on possède suffisamment de richesse pour satisfaire ses besoins</a:t>
            </a:r>
            <a:r>
              <a:rPr b="0" lang="en-US" sz="3200" spc="-1" strike="noStrike">
                <a:solidFill>
                  <a:srgbClr val="e5b325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MCBS00508_0000[1]"/>
          <p:cNvPicPr/>
          <p:nvPr/>
        </p:nvPicPr>
        <p:blipFill>
          <a:blip r:embed="rId1"/>
          <a:stretch/>
        </p:blipFill>
        <p:spPr>
          <a:xfrm>
            <a:off x="6858000" y="478620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L’autonomisation politiqu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a politique: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désigne tout ce que nous faisons dans le but de nous organiser, de régler des problèmes et de prendre des décisions pour nos écoles, notre communauté et notre p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politiqu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consiste à avoir son mot à dire dans l’organisation des choses et dans la prise de déci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7858080" y="5286240"/>
            <a:ext cx="914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culturel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a cultur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st un mode de vie. Cela inclut la nourriture, l’habillement, les croyances religieus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culturel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signifie pouvoir vivre sa culture, peu importe la taille du groupe qui la représente dans la sociét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643200" y="5357880"/>
            <a:ext cx="1656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socia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société: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comprend les personnes qui vivent, travaillent et s’amusent dans leur communaut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socia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: tous les membres d’une société sont traités de façon juste et équi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C:\Users\lindsey.carleton\AppData\Local\Microsoft\Windows\Temporary Internet Files\Content.IE5\U3ZMG4N0\MC900439402[1].jpg"/>
          <p:cNvPicPr/>
          <p:nvPr/>
        </p:nvPicPr>
        <p:blipFill>
          <a:blip r:embed="rId1"/>
          <a:stretch/>
        </p:blipFill>
        <p:spPr>
          <a:xfrm>
            <a:off x="5500800" y="4786200"/>
            <a:ext cx="30718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nationa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Une nation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st un groupement de personnes qui vit dans un p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nationa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existe quand une nation a le pouvoir de prendre les décisions pour elle-même et pour son p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C:\Users\lindsey.carleton\AppData\Local\Microsoft\Windows\Temporary Internet Files\Content.IE5\03ESVLVG\MC900013163[1].wmf"/>
          <p:cNvPicPr/>
          <p:nvPr/>
        </p:nvPicPr>
        <p:blipFill>
          <a:blip r:embed="rId1"/>
          <a:stretch/>
        </p:blipFill>
        <p:spPr>
          <a:xfrm>
            <a:off x="7072200" y="1428840"/>
            <a:ext cx="166212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La dépend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’affaiblissement de l’autonomie – le processus qui mène à la dépend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La vie sans autonomie – les gens ont l’impression d’avoir peu de contrôle sur leur vie. Ils pensent qu’ils n’ont pas le pouvoir de faire des choix concernant des choses importants pour eu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s droits de la person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es droits de la personne – assurent l’autonomisation économique, politique, culturelle et sociale des individ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Au Canada, les positions sur les droits de la personne ont changé après des ans pour améliorer les vies des citoye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Toutefois, tout n’est pas parfait. Plusieur groupes continuent leurs efforts pour que la société canadienne reconnaise davantage leurs dro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de revi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Réponds aux questions suivant en phrases complèt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e définition de pouvoi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Donne un exemple de pouvo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e définition d’autorité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Donne un exemple d’autori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 que c’est le définition d’autonomisa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elles sont les 5 types d’autonomisa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’autonomisation personnel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a dépendanc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Nomme un groupe dans la société qui a perdu son autonom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Qu’est-ce que c’est les droits de la personn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ahoma"/>
              </a:rPr>
              <a:t>**Vous devez aussi savoir le carte du Canada (provinces, avec le correcte orthographe, seulement.)**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 pouvoi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Tahoma"/>
              </a:rPr>
              <a:t>Qu’est-ce que c’est le </a:t>
            </a:r>
            <a:r>
              <a:rPr b="0" lang="fr-CA" sz="3600" spc="-1" strike="noStrike" u="sng">
                <a:solidFill>
                  <a:srgbClr val="ffffff"/>
                </a:solidFill>
                <a:uFillTx/>
                <a:latin typeface="Tahoma"/>
              </a:rPr>
              <a:t>pouvoir</a:t>
            </a:r>
            <a:r>
              <a:rPr b="0" lang="fr-CA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La capacité et la force de faire quelque ch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Une personne doit avoir l’autorité d’exercise le pouvo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Ex: On élu les politiciens – on donne l’autorité aux politiciens d’exercise le pouvo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j0404337[1]"/>
          <p:cNvPicPr/>
          <p:nvPr/>
        </p:nvPicPr>
        <p:blipFill>
          <a:blip r:embed="rId1"/>
          <a:stretch/>
        </p:blipFill>
        <p:spPr>
          <a:xfrm>
            <a:off x="7093080" y="189000"/>
            <a:ext cx="1361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Plan d’action pour étudier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Relis chapitr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Révise les réponses pour les questions de ré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Mémorise le carte du Canada (avec le correcte orthographe pour les provinces et territoires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Devoirs: Sous la loup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isez pages 16 – 19 enc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Répondez aux question #1, 2 et 3 de page 20 sur un feuil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opiez la question and écrivez vos réponses en phrases compl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4859280" y="4724280"/>
            <a:ext cx="1568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iagram 4" descr=""/>
          <p:cNvPicPr/>
          <p:nvPr/>
        </p:nvPicPr>
        <p:blipFill>
          <a:blip r:embed="rId1"/>
          <a:stretch/>
        </p:blipFill>
        <p:spPr>
          <a:xfrm>
            <a:off x="633240" y="493560"/>
            <a:ext cx="808992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Autorit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Qu’est-ce que c’est l’</a:t>
            </a:r>
            <a:r>
              <a:rPr b="0" lang="fr-CA" sz="3200" spc="-1" strike="noStrike" u="sng">
                <a:solidFill>
                  <a:srgbClr val="ffffff"/>
                </a:solidFill>
                <a:uFillTx/>
                <a:latin typeface="Tahoma"/>
              </a:rPr>
              <a:t>autorité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e5b325"/>
                </a:solidFill>
                <a:latin typeface="Tahoma"/>
              </a:rPr>
              <a:t>L’autorité donne le droit à une personne de prendre des décisions dans une situation pré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Exemp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M. Butler a la pouvoir de faire suspendre les étudiantes parce que il a été donner l’autorité par le distri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cc"/>
                </a:solidFill>
                <a:latin typeface="Arial"/>
              </a:rPr>
              <a:t>Pouvoir et Autorit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emple d’autorit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uvoir de cette perso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pitaine d’une équipe de socc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ésident d’un conseil étudi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crétaire d’éc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ef dans le mouvement des gu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voi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Faire une recherche dans les journaux et les autres médias afin de trouver des personnes en situation d’autorité et pourquoi elles ont du pouvoi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572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Arial"/>
              </a:rPr>
              <a:t>L’autonomisation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ffffff"/>
                </a:solidFill>
                <a:uFillTx/>
                <a:latin typeface="Tahoma"/>
              </a:rPr>
              <a:t>L’autonomisation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fr-CA" sz="3200" spc="-1" strike="noStrike">
                <a:solidFill>
                  <a:srgbClr val="ffc000"/>
                </a:solidFill>
                <a:latin typeface="Tahoma"/>
              </a:rPr>
              <a:t>d’être donner l’autorité d’exercise le pouvo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Autonomisation: empower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D’ être habilité : to be empow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M. Butler est habilité de fai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suspendre les étudi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334014[1]"/>
          <p:cNvPicPr/>
          <p:nvPr/>
        </p:nvPicPr>
        <p:blipFill>
          <a:blip r:embed="rId1"/>
          <a:stretch/>
        </p:blipFill>
        <p:spPr>
          <a:xfrm>
            <a:off x="6012000" y="4292640"/>
            <a:ext cx="1662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’autonomisation personnel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e5b325"/>
                </a:solidFill>
                <a:uFillTx/>
                <a:latin typeface="Tahoma"/>
              </a:rPr>
              <a:t>L’autonomisation personnelle</a:t>
            </a:r>
            <a:r>
              <a:rPr b="0" lang="fr-CA" sz="3200" spc="-1" strike="noStrike">
                <a:solidFill>
                  <a:srgbClr val="e5b325"/>
                </a:solidFill>
                <a:latin typeface="Tahoma"/>
              </a:rPr>
              <a:t> consiste à être capable d’agir en fonction de ses besoins, de ses désirs, de ses opinions, de ses croyances et de ses senti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cc33"/>
                </a:solidFill>
                <a:latin typeface="Script MT Bold"/>
              </a:rPr>
              <a:t>Vous avez pris les premiers étapes vers l’autonomisation personnelle juste par être ici a l’éco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Devoi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Complet 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Script MT Bold"/>
              </a:rPr>
              <a:t>‘</a:t>
            </a:r>
            <a:r>
              <a:rPr b="0" lang="fr-CA" sz="3200" spc="-1" strike="noStrike">
                <a:solidFill>
                  <a:srgbClr val="ffffff"/>
                </a:solidFill>
                <a:latin typeface="Britannic Bold"/>
              </a:rPr>
              <a:t>Autoportrait dans vingt ans</a:t>
            </a:r>
            <a:r>
              <a:rPr b="0" lang="fr-CA" sz="3200" spc="-1" strike="noStrike">
                <a:solidFill>
                  <a:srgbClr val="ffffff"/>
                </a:solidFill>
                <a:latin typeface="Script MT Bold"/>
              </a:rPr>
              <a:t>’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à l’aide des questions suivante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 âge auras-tu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les études postsecondaires auras-tu suivies ou seras-tu en train de suiv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le carrière auras-tu entrepris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le sera ta coiffu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Comment t’habilleras-tu (selon ta carrière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Où vivras-tu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Quels seront tes passe-temp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Seras-tu marié ou célibatai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À quelles activités communautaires et sociales participeras-tu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Donne des exemples du pouvoir que tu aimerais détenir dans vingt 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0:02:59Z</dcterms:created>
  <dc:creator>menb</dc:creator>
  <dc:description/>
  <dc:language>en-US</dc:language>
  <cp:lastModifiedBy>School District 8</cp:lastModifiedBy>
  <dcterms:modified xsi:type="dcterms:W3CDTF">2010-10-04T15:11:19Z</dcterms:modified>
  <cp:revision>48</cp:revision>
  <dc:subject/>
  <dc:title>Chapter 1</dc:title>
</cp:coreProperties>
</file>